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79A6-3330-47FB-AC3B-1AF156D7C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F3DC-DFBE-42C8-B19F-4DD78982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13C1-53CA-4826-BCEA-9A681EF2B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30F2-BBF7-4E1B-A1D5-C02A3C1E6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2010-6A3B-4A08-B331-47D3235F9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6A9C-A25A-4A27-9133-E69C0FC4A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4C34-DC9F-4EC8-B1D3-19884C0B5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7431-8206-41EA-A3B7-166C97117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8CA4-6D66-4734-9726-837EAB596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6F69-A07A-469C-8CFA-B53ED3D3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2B3C-AA93-4EF1-81FE-5C3AFCEB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2AC1-CE66-4820-8A4E-08D56861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10008-89F0-4D7A-8EF2-12BF75C0A1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Nom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Classe: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Arial"/>
              </a:rPr>
              <a:t>Le soccer est mon sport préféré parce qu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Arial"/>
              </a:rPr>
              <a:t>Je le pratique de manière ludique ou compétitive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15:27:27Z</dcterms:created>
  <dc:creator>Generic</dc:creator>
  <dc:description/>
  <dc:language>en-US</dc:language>
  <cp:lastModifiedBy>Josée Meunier</cp:lastModifiedBy>
  <dcterms:modified xsi:type="dcterms:W3CDTF">2007-11-20T04:14:39Z</dcterms:modified>
  <cp:revision>8</cp:revision>
  <dc:subject/>
  <dc:title>Le chien</dc:title>
</cp:coreProperties>
</file>