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5A9-B0DD-4A7F-8B03-3F4EB24A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125-9735-48AD-A3AE-D2D00E0D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BA8-BED6-45AC-A849-7BDDCD5C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2B4-A177-4B33-A9D2-24D1C3ED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7096-47D8-4D6D-9BC5-046D2ED6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DE2-E5DA-450E-B406-A4E3BAAF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9DA-4896-48C4-B0E2-EBB498C3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9BBE-BA62-4553-96F4-B4618612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C8D-8191-43E0-A2E1-826F3CCC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A07E-554C-48C6-AF0A-7D935811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D1F-A252-4E4C-B248-FB867317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2A5-25F9-4EBD-A365-9E9DA803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E2E6-8671-4555-83E1-B007DC149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Nom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lasse: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Josée Meunier</cp:lastModifiedBy>
  <dcterms:modified xsi:type="dcterms:W3CDTF">2007-11-20T04:14:39Z</dcterms:modified>
  <cp:revision>8</cp:revision>
  <dc:subject/>
  <dc:title>Le chien</dc:title>
</cp:coreProperties>
</file>