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04A-E602-4701-882A-38461D55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1BE-BE55-4A3A-8047-BFC916E5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09E-5D15-4560-B2AA-7E30D0AE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0F4-17F8-49E9-A66E-7740C11E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C99-2F66-42DE-97C5-95E7A31D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994-D629-4223-A9AF-00FB3465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F2B-2707-4B42-9C5C-8592D552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FD2-4780-4574-9230-A8EACF5F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500-2410-49BF-8051-89A47670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D26-0693-4F1A-BDBB-124D1B2C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E2F-B8F0-4465-AAFE-5F1FEBA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2FB-AE99-40AD-AC33-EDC00C4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1944-7FB0-496A-9CDA-5096BAAFE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4:39Z</dcterms:modified>
  <cp:revision>8</cp:revision>
  <dc:subject/>
  <dc:title>Le chien</dc:title>
</cp:coreProperties>
</file>