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B5D3-34CF-4F18-AE54-2A4E8D0C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A87-3DB2-4B6C-AD26-AB639EB3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FEAE-793B-4F23-81B7-47ED9BD5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BBC-22ED-4F85-98F4-3B76791D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812-22E1-4004-885F-CE085915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9FB9-1A59-495D-9D96-BD0436B2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653-F70C-4937-87FD-A1E29C3E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7764-5C8F-42FC-A604-FB45FD3C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8AE0-2CF6-44D9-BD07-F4F0BC6B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3FB0-A4D5-493F-95A4-368BDE52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2C4E-A58D-452C-A504-28394D9A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7685-0922-4F87-B312-0D72F52F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F261-44DC-45AD-8722-4089E38C5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 soc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pratique le soccer depuis que j’ai environ dix ans. C’est mon sport préféré parce que j’aime être active et me dépasser physiqu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tique de manière ludique ou compétitive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le pratique davantage de façon ludique, pour m’amuser avec mes amies. Toutefois, à l’âge de vingt ans, j’ai eu la chance de faire partie d’une équipe pour une sai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Josée Meunier</cp:lastModifiedBy>
  <dcterms:modified xsi:type="dcterms:W3CDTF">2007-11-20T04:10:08Z</dcterms:modified>
  <cp:revision>7</cp:revision>
  <dc:subject/>
  <dc:title>Le chien</dc:title>
</cp:coreProperties>
</file>