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6B3-ADF5-472A-A49E-55615A8C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C62-E4A5-4661-B6C6-26DE784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2F0-F49F-4745-96D2-7D0ED9E6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0B1-D5C3-43E4-A275-3655F5EA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EC3-0E76-4A46-B706-4CDB2FBA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D04-03CF-4BBB-A4AA-5AF42EFD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46B-C4F6-4DDF-8890-A1FBFA6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2BE-34C5-4AF4-895F-A6735186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DCE-EECF-4AF0-8FCD-9B162D88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320-0FFE-466A-BC62-208AA263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F87-3897-4F58-972D-BD59B1E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F3D-ECB3-4090-8794-9C02007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3C74-DFC1-4823-8399-2820AC01E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pratique le soccer depuis que j’ai environ dix ans. C’est mon sport préféré parce que j’aime être active et me dépasser physiqu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tique de manière ludique ou compétiti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davantage de façon ludique, pour m’amuser avec mes amies. Toutefois, à l’âge de vingt ans, j’ai eu la chance de faire partie d’une équipe pour une sa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0:08Z</dcterms:modified>
  <cp:revision>7</cp:revision>
  <dc:subject/>
  <dc:title>Le chien</dc:title>
</cp:coreProperties>
</file>