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E88-79A5-45EE-A904-F98F1482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E47-EAEA-4F48-848F-0D260AAF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F1C-3F18-4FCA-B45A-5E8A3A91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AB4-77F7-41BB-A4B1-4C8EDADD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68C-BF8B-44C4-A574-3C378C8E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631-5320-4F41-A975-04545D61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EE1-9637-4D0D-8944-AC6C2A15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358-4362-4186-8C49-61EFBA54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28E-A152-472E-A38F-327430B6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DBF-91B9-4C96-9489-E2601399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B24-3F43-413B-8CC5-A0E113D2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133-33A0-4940-B6F1-E2F76DBF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4D1B-FE2B-4171-9146-0E8AE06EE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44:47Z</dcterms:modified>
  <cp:revision>8</cp:revision>
  <dc:subject/>
  <dc:title>Le chien</dc:title>
</cp:coreProperties>
</file>