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504-5C31-4EB8-B43D-580EB973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DA9-8328-449D-A18D-880CCC35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D33-6622-43F9-B03C-40CF88D3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8BC-CD45-4318-BA56-54B724BF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08B-7A8E-40BA-96DB-3CE49AF5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070-9B7F-4807-93E7-90C20CD0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E49-4D03-4AAF-8072-857512E4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E7D-8190-400C-97C5-5C275EC4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AB9-E292-4922-973E-93B1EE2E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C4C-A1AE-4B8E-9545-80A117CC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145-891D-4780-A0A9-627ED92B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876-90D2-4FEA-8CFF-B52B9ABC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717E-03B0-4E18-BFCE-0EF6FD30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44:47Z</dcterms:modified>
  <cp:revision>8</cp:revision>
  <dc:subject/>
  <dc:title>Le chien</dc:title>
</cp:coreProperties>
</file>