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F42-5658-4BE8-900A-EDCBE042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568-C0EE-47C1-B759-E68B829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2ED-28A6-40FF-B8FF-A93FC8F6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DE4-3626-44F3-B701-F8352E18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52B-00AB-4A68-B85F-BB82C08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D7A-F960-46A2-9C0C-F807B728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F27-DC45-452F-A920-2BB1FC9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88A-336B-4702-AF75-898C08CF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AFD-1802-431D-9D91-287766C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7C1-2E45-4928-88C2-92D8535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C22-AA32-4BFB-AF41-EC577E65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035-133D-47DB-B46B-708F6E5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446-D2B2-4240-82C2-8A0EADE4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44:47Z</dcterms:modified>
  <cp:revision>8</cp:revision>
  <dc:subject/>
  <dc:title>Le chien</dc:title>
</cp:coreProperties>
</file>