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37E9-13FF-438B-BEF6-523346A1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851E-71AB-46D2-9809-54159401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FF09-D1E7-46B0-B5DF-42B16D06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C418-5000-488B-9AED-E24AE4A6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51AA-3882-4029-B7CE-EDC3BBC6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9BFB-A9F0-42EE-BB2E-B5A09EA1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5F43-5E06-44AB-AD3B-0BFBE57A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F18E-01BE-4717-919F-3CD5A543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2516-4DD9-4CB3-92FB-B2D7ED5C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9034-CB72-4E23-B3D9-8F90B65A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3307-F007-4D4D-8F22-DC59AA38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2BBB-BDFF-4422-9D5A-9EED37A1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ABF1-3BBE-4113-88AA-2A97211B7D30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m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Mon sport préféré est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ent je le pratique (ludique ou compétitif) et à quel endroit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Pourquoi j’aime ce sport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03:49Z</dcterms:created>
  <dc:creator>Generic</dc:creator>
  <dc:description/>
  <dc:language>en-US</dc:language>
  <cp:lastModifiedBy>STI</cp:lastModifiedBy>
  <dcterms:modified xsi:type="dcterms:W3CDTF">2007-11-20T19:01:27Z</dcterms:modified>
  <cp:revision>6</cp:revision>
  <dc:subject/>
  <dc:title>Nom:</dc:title>
</cp:coreProperties>
</file>