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27D-054F-4032-A02D-6A58F2B8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A75-0348-40D4-9E63-68B43645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A4B-C256-4B73-AC8B-6B676838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FE6-F8BD-45F8-B56A-D78366BC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B2F-11D0-4558-AE61-385A2252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742-4E1E-4380-9D73-B9474D14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49F-E41B-4410-8140-627B0808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846-6758-4FE0-A7F4-3921E7C1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746-70C8-43B2-9E83-DD43D87E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68C-63FE-409E-9AA4-EB095AD6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FA1-BD78-4C36-A39A-A33A8E8B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DCD-705A-4E8B-A0B8-256C8B68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2E2F-73B0-4BB5-B347-A96462830FBF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1:27Z</dcterms:modified>
  <cp:revision>6</cp:revision>
  <dc:subject/>
  <dc:title>Nom:</dc:title>
</cp:coreProperties>
</file>