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29B-1D24-4E61-A430-6B6CFF77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8F2-8DCE-4EF8-81F5-692FE7DF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D54-648E-42E4-84FE-5CE597E5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F32-E189-4788-B8D2-3EF9965C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962-6B3A-41AD-B806-FB54EA3F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079-0D40-4044-B536-654A2100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6FB-5630-430B-A003-7B2D1AE4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C0F-8429-45CC-8B7D-B8560A2A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B47-FA18-4B94-92F4-676583BB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E1A-E151-41A2-8EDA-54D85349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CC8-6FAC-4743-93C7-32FFE4C6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EC6-7AEA-4C5B-A834-BCEF7861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92D8-A868-49BB-B543-6F621E2826F4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1:27Z</dcterms:modified>
  <cp:revision>6</cp:revision>
  <dc:subject/>
  <dc:title>Nom:</dc:title>
</cp:coreProperties>
</file>