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7129-1E39-435C-986E-5A2E3CA98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3E31-83B9-4F51-83EC-A44AEDC1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4925-C788-4A64-B6C2-2A5AF1107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6B34-FBDC-4B81-8659-27FBEA81F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40E1-5A40-4121-AC2E-A82ADF98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A1C1-5C2F-4F49-B3D5-40C17B52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2068-E4E9-47BC-BD6B-6CBDB9DC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578A-887B-4D7D-B593-FE7EDD57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6CDF-6F1A-4460-B7E0-8AE7EEF3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9F5A-BD7D-4564-BA66-994C8145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CF1A-87F4-4821-A5DC-4FC5C066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2F8F-44F5-4386-B8B2-0C406122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84C7-35ED-4588-BF0A-AE4124F020E6}" type="slidenum">
              <a:rPr b="0" lang="en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m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ass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Mon sport préféré est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ent je le pratique (ludique ou compétitif) et à quel endroit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Pourquoi j’aime ce sport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03:49Z</dcterms:created>
  <dc:creator>Generic</dc:creator>
  <dc:description/>
  <dc:language>en-US</dc:language>
  <cp:lastModifiedBy>STI</cp:lastModifiedBy>
  <dcterms:modified xsi:type="dcterms:W3CDTF">2007-11-20T19:01:27Z</dcterms:modified>
  <cp:revision>6</cp:revision>
  <dc:subject/>
  <dc:title>Nom:</dc:title>
</cp:coreProperties>
</file>