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F11-7343-49AD-A47E-CD3B6499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5702-EDBA-48F1-956A-5EAA985C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4721-CD9C-4642-B940-A30B6981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8BC-2894-4CD2-8B15-FE0ECE5D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40E3-B39A-45E5-A49B-85316638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3684-DCB1-4146-9A77-59B0EAFA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2240-9640-433C-B4D0-2F992F96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9F73-68D9-4911-B4FF-3D9A3D23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5D94-9401-4B8D-9A7E-94A95D73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6A5F-89BF-4AA8-8E77-D45D73B2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E9BF-1EB9-4CB2-AC19-DD333EE7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1C37-ED2E-4705-898E-17CE2D7B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1BDF-BDA8-41A3-9AAD-82B2D98F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0A6F-9CDF-4EBF-89A7-6842382A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1934-BB6E-4FD2-804A-6B296F99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E5F1-18B5-4311-8926-CB04C793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C56F-5714-45E0-B57A-6F3C6457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6BE1-AFA1-4207-8820-4920DD13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E44-9AD8-4B2A-A872-820044F6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E2FD-A147-4B45-89AF-37214ADE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08E-68C3-4968-9AA2-799119C6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171C-362B-4735-9AAC-0E657E0D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78E-8B8B-4A34-8CEB-49EBA624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CD8-2A56-462F-945B-84D3C1B3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4211-3065-423D-A443-238293B4ECB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C3DF-0AB5-43CF-9F67-B96F44922EF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Mon nom est: 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Mon mets préféré est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34:54Z</dcterms:created>
  <dc:creator>Marie-Pier</dc:creator>
  <dc:description/>
  <dc:language>en-US</dc:language>
  <cp:lastModifiedBy>Marie-Pier</cp:lastModifiedBy>
  <dcterms:modified xsi:type="dcterms:W3CDTF">2007-11-18T18:57:44Z</dcterms:modified>
  <cp:revision>4</cp:revision>
  <dc:subject/>
  <dc:title>Mon nom est: </dc:title>
</cp:coreProperties>
</file>