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A26-E8F8-4151-8386-3E7542C1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6C0-6780-4751-B145-3BA5518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79C-B080-4587-8FDB-CD1A9AA2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7E9-4C70-49EC-99B1-9671CF80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82A-8512-4708-8A9F-C2A3289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4C0-3EE8-4DEC-B244-0A7A5B4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475-F6D9-41E2-8124-F59BF4A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C61-71BB-46A7-885D-F5DA341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AAA-754D-485D-BD33-47C6B116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9E4-FF04-4A81-99CD-8CDC9402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7DF-A838-4462-894B-5039702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E6F-D1D9-4D64-A09C-6484A3F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F732-6ADA-4EEB-BF51-AEECCB573E29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3:18Z</dcterms:modified>
  <cp:revision>6</cp:revision>
  <dc:subject/>
  <dc:title>Nom:</dc:title>
</cp:coreProperties>
</file>