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70E-A418-4FBF-9137-0DAF7539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12D-C246-4A95-9A70-D1C67270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98B-4538-4296-8C97-4B4A4D75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94E-B8E6-4C54-AD77-D2CA1EF8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EA1-028B-40E9-8213-7591A752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F71-39FF-4C12-BC1F-88FDECEB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AB7-91F6-4813-909F-409B2C8C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D57-E8AD-4C23-81BA-7774061C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FF8-22B8-4558-AC8D-34416234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65B-5243-4428-8030-00EDEAAF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D56-D359-478C-89DD-EC7B4854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E0A-B699-44BD-9995-57994E8E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D12B-F4C8-4771-AD36-7F7599723CF7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Mon sport préféré es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 je le pratique (ludique ou compétitif) et à quel endroit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ourquoi j’aime ce spor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03:49Z</dcterms:created>
  <dc:creator>Generic</dc:creator>
  <dc:description/>
  <dc:language>en-US</dc:language>
  <cp:lastModifiedBy>STI</cp:lastModifiedBy>
  <dcterms:modified xsi:type="dcterms:W3CDTF">2007-11-20T19:03:18Z</dcterms:modified>
  <cp:revision>6</cp:revision>
  <dc:subject/>
  <dc:title>Nom:</dc:title>
</cp:coreProperties>
</file>