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F41-89EB-4CC7-9FA7-34633777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182-9E8E-4ECC-BB22-87828194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AD5-20C7-4C5A-9945-617E2540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7E0-865F-4675-9516-79543A4A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7A4-5C70-49FA-B5E1-9F6F3694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D30-B21B-4675-8CF0-46D4E64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A75-4740-4766-B5DD-E946904B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730-C0CC-4311-AB1F-E0E37F07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C83-7B9A-4E9A-95C6-9811BEB0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19B-1C53-4541-901D-CDA3358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D55-024F-4576-B154-1EE3697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55A-76D5-4409-AD5F-5589344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365-A47B-442E-8FFC-6ACBC3EBAA62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3:18Z</dcterms:modified>
  <cp:revision>6</cp:revision>
  <dc:subject/>
  <dc:title>Nom:</dc:title>
</cp:coreProperties>
</file>