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A82-FBC6-4EBD-B92D-FC149AE9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471-2AA5-414D-B09C-29D667CB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5F6-15DF-4067-BD76-6C4D83FC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3EB-5CD1-4CE4-B32D-63D826F2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DC3-7D09-40DE-A164-2FF29262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3E2-EE8F-4AAD-A151-A466C182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DFA-3E64-4DDF-9F7B-73C0097B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30B-70BF-463B-8A43-2CD60224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680-32DE-4166-9F29-4E27F874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C50-CBCD-4351-AA72-878C7C2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B7A-FC01-4E98-9C20-93C5C94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40F-9102-495A-B76F-9517B7D5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0E62-A73B-4DC3-99D7-5FB79B5C37C7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3:18Z</dcterms:modified>
  <cp:revision>6</cp:revision>
  <dc:subject/>
  <dc:title>Nom:</dc:title>
</cp:coreProperties>
</file>