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E3A8-9405-4D6D-8931-B96E67CF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334C-9534-48AF-9833-3DE3D8BD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0BF02-C439-4C71-B390-F934B11D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B0C03-EF8F-4A0E-8B3C-2AE4D6A4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5B8BD-B966-40C6-A1F4-3B6CDDE3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31A62-FC85-4821-98D3-432B585A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DE4CF-9862-4823-919B-E462ACDC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F07B6-990C-485C-B1E1-E2A0E672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F587E-DF0B-4467-ABEC-8690B6DC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6C015-1119-4CF7-B127-D4813024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F1EA8-28B8-4D6F-BD15-EA087F6D7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0EF1E-BC21-4836-BCF7-53EEC43B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E394-C1F9-4880-B8B0-2B176C21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53C51-37BF-4121-B6C3-09141C44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69B70-C31E-48D3-9E2A-3999BEED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0F5B2-B6B7-44A3-A48E-1113801F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D6430-092A-4DE3-B989-B930F5CF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BDEE4-B54C-43FD-8675-817A8AED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F59AD-3A0C-4973-BE18-CF56B321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95ED1-52C9-4378-802D-8C90B61D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B01C9-9C82-4B6F-AAD2-EBFA105D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5824F-CD60-4E52-B48E-9F0D6AFD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B4849-D63C-4F2C-A7E0-3A397545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03F3-9136-4A23-ADAA-24A2E362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FD1A8-B7BD-48B6-8B58-A629320C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D5DC9-5F74-4EAF-933F-B017B204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F7394-9446-4E35-B517-A75895DF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4D8AF-29A7-4F30-9AAD-81432F48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EC59A-D6D6-4EF2-9113-B72F328F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D78BB-7639-4208-8080-11EA2754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0305F-E038-4F54-A146-E60A1B48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3549C-BE34-4358-886A-1A91437E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98345-189E-4920-9223-4C62A12E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7EC3B-0E65-43F4-A800-30CA2917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0EC0-04EA-49AA-831A-DAD9DE99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6E29F-E219-409B-ACDE-DB716333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98CDC-E46E-43B7-BDA0-13F72A41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5F789-032A-44EA-B656-07BE2DD55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DF4336-B438-485A-AEB1-C201540A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7635C-0E39-4CC4-8E79-AD460BD8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076B9-1B7F-4F1E-BE32-E55C7C28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8AFF9-00F2-4138-A235-9E4E8373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41D89-BA37-4C74-9203-33ED9814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E7523-6ED0-49A8-8EEB-FB8F4F44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E7E40-9D9F-4BA8-A908-B464FED0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7E04-D556-4E5A-8DE5-68E6BBDA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AD4FF-76ED-4FA4-AC2C-E12AA8D8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2C14E5-A8F8-4347-8466-098F1897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8CE1C-7F6B-429E-AF48-5586137C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1945C-5DEE-4BB1-A22A-B4D6BBFE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9ECFF-9FBB-4433-95BD-575DFA71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767CE0-B9C3-4EEA-A914-F815013C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9ECB31-38EA-4B67-A3BF-DE2E6AC5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C8470A-7938-4188-BAE2-8C4F8C92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0DAA6A-EDF4-4D38-9708-58FCD903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641C3E-50A3-44A1-8F69-C007D6BE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7AF8-76A3-4E28-A56B-656D0585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3C0BF1-2E6C-4031-97AC-58D68E2B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320D76-E6EC-4CAB-B813-548935DC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B5B1D-259C-43B6-A982-1EC976B9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6CC180-09EC-4782-AB77-0B94302B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9F15C1-6AEC-4A49-8B64-FC6CABE1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42AB66-87CF-406B-B7F2-E2573F6A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06F2EE-30CD-45F7-BA01-F426CCBC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8674D5-D0FA-416E-8720-AA91F7C67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71F9E3-BC60-4A99-84B2-54907816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AD95B5-F8FC-4447-A473-46A58017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251B-B5A0-4888-991B-928B50DE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50F0EA-1548-45AE-8047-E3FE18FB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E144C-EA58-46FD-909B-ADA93C46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D4A187-73B3-48EB-9A3C-08DBA83A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53AD31-8F41-4670-921C-6D89F8AB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786B91-1E42-47CE-B5E5-0F886940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FAC1A6-F60B-4AE4-BEC4-468C41B2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C20CE9-3E8D-4F8F-B136-03AFD31A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0495B1-1837-4876-9D30-88BAFF5E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8734F3-FB04-42CD-93E0-A25811AB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A85EC2-F147-4BA5-91FF-8A6EC6EF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7D7B-EC8C-4953-84F7-526B9ED5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A387C1-F555-431E-9961-524A9B19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39FE8C-2BD5-4D15-9824-8EFF1914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B02B50-3717-48BB-B21B-7D2E5FCF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69200B-E86D-4B41-80C6-5D6CF8E7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B83307-F055-48A0-9A3D-44E165B0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F8A60C-B7E4-4AD6-8076-15FD4E04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4A8F5C-7783-4BD7-833F-3101E7DF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628ECE-969F-49B4-9D7C-8F1FF3E6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4B7E5F-EFFF-499E-A96A-461FD912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1372CD-EAA3-4367-B8DC-CD085767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9514-0A54-4E7A-A9D6-17FEAFEF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58EE4A-3A25-4CAA-968E-F97EAB71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F06624-9188-44F8-A167-976206F0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6D6400-3CA0-48BE-B7EB-E5B6A20B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967D2F-D9F8-4CDA-B951-9CBE561E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333409-9ED7-4229-AF2E-51021732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B0C523-478C-4B61-AE82-4887E305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2E1A53-9BF3-4049-B959-57F6C236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1D965C-4C88-4982-A6EE-36F3F62A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681DA0-39B5-4EF8-AFB9-59AA8485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1002B4-A1D4-452F-98FE-64D32F5A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37C8-445E-4E84-863D-D9372C07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9DB145-14BD-4F06-B00B-E2501C38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060E12-1367-4277-BAC7-8A3C812F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347CF3-6055-4744-9BF1-CCE1D3F1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5337A3-8F2F-4D0F-B354-4EDE1D0D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25307B-BA99-4022-AED7-2DC2071B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FD63E8-0EA2-43C6-BFFD-702EA3CB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B670C5-6E33-4854-B9B7-7E297ABB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367CED-3B36-424F-A432-BDCA3089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20C68E-513C-4A70-A4CA-83EC4320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CE6D2C-DE9D-4014-885B-FDA364D5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C1C0-F261-4406-A47F-CBB45674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D475-6150-4320-832D-A3D0FDD3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3D7EC6-A851-4745-9249-C0F10FCA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0693EC-28CD-4A51-9542-F641C3A0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E88282-FC1A-4165-8E3D-AEAD8359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A20A53-03A9-41FF-BEEC-EA44C9BF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330E02-1B65-4551-9B4F-30660CF0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D5B76A-9848-439B-AE0B-5A2F8CEC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C07CF5-FC31-418B-A72C-583CE9BF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46C555-DA2C-4EB4-A2E1-3A8893A4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58F4A0-43B1-48DF-BC15-6761966F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73C7D7-544A-4497-8C89-0BC43FCC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7CB5-A2EA-4287-8844-1CC1E3F5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256477-7135-46C6-AB3E-8F18A2B3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9359EC-5E62-4C2E-A794-3CD3555B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8832CA-04FF-4C0D-8CA6-C667145D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D4DE61-28C8-4E6E-A5EB-3C3DFC3F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35DCE5-D651-4713-B428-A1721FEC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0BE6A3-949B-45E2-953E-094A3F0E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C04606-2C1E-4BB5-8F7D-0FB59866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68D5-767B-43EE-BABB-2F424B6F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34C6-0CE0-4EF6-BB5E-88EE6A8F3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A95C-3618-446F-A2AB-B20F6390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0846C-B254-4BD1-9B0A-A1462C64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D6AEB-B268-4DE6-AC24-E377E942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B0394-5BA3-4E87-BD20-400AE206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DD126-1D4F-4EFF-9713-4F2AAA90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4BB0C-17E9-4CA4-A611-19D0AB2D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33EC-00D5-448F-9A02-2F64074C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7AB77-42B8-4F66-A60C-BFE2EA16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5816E-AC27-4926-B0D6-5455149D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30B0F-C711-4175-8C6A-F9738224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89267-EFDE-42D0-AF57-72148171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1D006-BA00-44B8-8083-BACB690D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EA300-F204-44E5-91DF-92B71D9E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0CCE4-C10E-490E-8137-E1A8589F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924FD-3DF9-4154-B06F-8FB2D52D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214DD-568E-413D-9FA4-C3A5A48F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4F8C3-6CA8-4648-9358-5D5C130D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C356-5714-409E-8D70-AE51E149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863C4-6BF1-4921-B3E3-2859ECC8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EEB96-537F-46EA-A1D9-E63A5A86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F9BD1-50A2-46C6-956F-3B70B0F4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DCE05-C9E1-4BB8-B2C3-230E91E3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507F7-0F92-4AF5-94F5-131784A8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79626-2759-4411-905D-01C39C0E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E0D4F-B0BD-4A5B-A454-83A38682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A123A-8158-4F26-A504-6ABF84D1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08C39-8A5F-4D73-A066-505518EB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F5E16-1A6E-4D0E-AD86-73FA2FF7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76B4-34CD-4362-B3F1-6E20BE65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C2BA7-B22A-4E71-8F75-1DC37116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8F6D7-5E7F-4E63-8AEF-C183F16B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620BA-0C53-4784-B90B-41412D5A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6D4B9-23D3-4C68-B8F9-4946688B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8406E-C84B-4C53-94F8-CA247EF6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20211-9E7B-44E4-BFF5-A9D4621E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4698C-AE23-4579-BF04-A7277777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EF022-A05A-468F-A2B2-BA55268B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2C6B9-1B68-400E-A786-AAB66036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89954-595D-4778-B224-84C1412C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9C03-165A-4BD5-B7B1-7196E063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D2D93-661A-4A4B-909E-4CB00B88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D27ED-692E-444A-9373-B7C94C23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CEA81-20DC-4906-879F-D6C81B97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1EA8D-4CD5-4E52-8515-D6AE4DA3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1BBEF-3226-4C64-A41E-2AD09C7A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0BEB1-ADD8-4DCA-B6E2-D9FA63FB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DB216-383B-41CC-B0AA-7514C043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A6FD1-9494-4173-BF90-8AD4A8E5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5B37B-E9CE-4045-8961-DC2AF795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7227D-F3A3-465D-A073-23C1C716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3517-FB22-47CC-9734-9618A57C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B15C5-D6F3-450E-8E7B-BFEB8875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85CB5-9F2B-4068-A018-E76DAC93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F3524-F745-4C96-83B5-AFC5005E2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B5E72-93FB-493B-9816-C22A8AA5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A2498-4E28-4BE0-A320-4C599AB1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AB65B-8F2F-4762-9842-FD211136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83FCD-A872-4FB9-870D-6D59250D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72199-0A2C-46D3-8AD9-C46CB234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015BB-E533-441B-AF17-06C420F8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79A2F-BF50-4F84-8A93-3B00B7B4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3092-92FF-4E49-B9DF-7C4D8FE8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BDF2D-0048-4388-8C37-65F07374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65F68-7008-4B60-95E9-AAE38CCA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93DA5-6748-4642-B8D2-56492D6B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5D8BD-00B3-4552-8820-E505B15D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2E14F-B424-49B9-A90E-3F7DC950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B38AB-32E2-4441-8955-7C4AC8F4F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DFE83-61D5-4491-BC18-B1742F4B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6D15C-74B8-4DFE-A967-089A1CFD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5EB25-0CC4-4979-BAA0-DD220670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369FD-BB88-454A-802B-6CD61982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395A-459A-40BC-8324-4DEE6AE8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A3CC7-09CC-40F0-8980-6CF323A6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99896-BC19-4173-A4D6-D668C4E3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E877B-7C86-43DB-8EF9-B29A00F6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5E9A2-969F-4A25-94F6-4BA379AB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2EE83-8215-4A20-ADA7-9A93FF2E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6D6CB-1B7F-4BA7-8644-79896AB9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A2EFF-0E37-45FF-8819-5BA490FB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D9A88-26F5-428F-AE23-AA761E72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26F98-C703-4D46-A160-1013C9C2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6D220-1591-4A95-BD6D-746DF7E2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193.xml"/><Relationship Id="rId35" Type="http://schemas.openxmlformats.org/officeDocument/2006/relationships/slideLayout" Target="../slideLayouts/slideLayout194.xml"/><Relationship Id="rId36" Type="http://schemas.openxmlformats.org/officeDocument/2006/relationships/slideLayout" Target="../slideLayouts/slideLayout195.xml"/><Relationship Id="rId37" Type="http://schemas.openxmlformats.org/officeDocument/2006/relationships/slideLayout" Target="../slideLayouts/slideLayout196.xml"/><Relationship Id="rId38" Type="http://schemas.openxmlformats.org/officeDocument/2006/relationships/slideLayout" Target="../slideLayouts/slideLayout197.xml"/><Relationship Id="rId39" Type="http://schemas.openxmlformats.org/officeDocument/2006/relationships/slideLayout" Target="../slideLayouts/slideLayout198.xml"/><Relationship Id="rId40" Type="http://schemas.openxmlformats.org/officeDocument/2006/relationships/slideLayout" Target="../slideLayouts/slideLayout199.xml"/><Relationship Id="rId41" Type="http://schemas.openxmlformats.org/officeDocument/2006/relationships/slideLayout" Target="../slideLayouts/slideLayout200.xml"/><Relationship Id="rId42" Type="http://schemas.openxmlformats.org/officeDocument/2006/relationships/slideLayout" Target="../slideLayouts/slideLayout201.xml"/><Relationship Id="rId43" Type="http://schemas.openxmlformats.org/officeDocument/2006/relationships/slideLayout" Target="../slideLayouts/slideLayout202.xml"/><Relationship Id="rId44" Type="http://schemas.openxmlformats.org/officeDocument/2006/relationships/slideLayout" Target="../slideLayouts/slideLayout203.xml"/><Relationship Id="rId4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205.xml"/><Relationship Id="rId32" Type="http://schemas.openxmlformats.org/officeDocument/2006/relationships/slideLayout" Target="../slideLayouts/slideLayout206.xml"/><Relationship Id="rId33" Type="http://schemas.openxmlformats.org/officeDocument/2006/relationships/slideLayout" Target="../slideLayouts/slideLayout207.xml"/><Relationship Id="rId34" Type="http://schemas.openxmlformats.org/officeDocument/2006/relationships/slideLayout" Target="../slideLayouts/slideLayout208.xml"/><Relationship Id="rId35" Type="http://schemas.openxmlformats.org/officeDocument/2006/relationships/slideLayout" Target="../slideLayouts/slideLayout209.xml"/><Relationship Id="rId36" Type="http://schemas.openxmlformats.org/officeDocument/2006/relationships/slideLayout" Target="../slideLayouts/slideLayout210.xml"/><Relationship Id="rId37" Type="http://schemas.openxmlformats.org/officeDocument/2006/relationships/slideLayout" Target="../slideLayouts/slideLayout211.xml"/><Relationship Id="rId38" Type="http://schemas.openxmlformats.org/officeDocument/2006/relationships/slideLayout" Target="../slideLayouts/slideLayout212.xml"/><Relationship Id="rId39" Type="http://schemas.openxmlformats.org/officeDocument/2006/relationships/slideLayout" Target="../slideLayouts/slideLayout213.xml"/><Relationship Id="rId40" Type="http://schemas.openxmlformats.org/officeDocument/2006/relationships/slideLayout" Target="../slideLayouts/slideLayout214.xml"/><Relationship Id="rId41" Type="http://schemas.openxmlformats.org/officeDocument/2006/relationships/slideLayout" Target="../slideLayouts/slideLayout215.xml"/><Relationship Id="rId42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9873-926B-4888-9225-312448C4C8F1}" type="slidenum"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24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3B41-7754-4F33-8548-A700A9A280AE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67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68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71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74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77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81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3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30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2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1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42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  <p:grpSp>
              <p:nvGrpSpPr>
                <p:cNvPr id="546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1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4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9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7673-16D6-4359-A12E-E522400D97AF}" type="slidenum">
              <a:rPr b="0" lang="fr-CA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43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44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48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49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1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53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89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1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92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4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95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7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98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0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01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3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04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6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07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9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10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2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13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5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18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0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21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3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24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27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9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30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2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33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5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36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8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39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42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4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45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7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48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50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51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52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9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0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61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2CAF-9B9F-45E0-B6FA-7B7915A4B43A}" type="slidenum">
              <a:rPr b="0" lang="fr-CA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816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3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3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ADD8-1F28-4151-9BCD-73E2C9269A2F}" type="slidenum"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61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dt" idx="4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ftr" idx="4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sldNum" idx="4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A44B-B640-4E6B-B880-4554475C2800}" type="slidenum"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05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dt" idx="4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 type="ftr" idx="4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1891-AFC5-4AF6-99AF-CE25E290A2C9}" type="slidenum">
              <a:rPr b="0" lang="fr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8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015" name="PlaceHolder 1"/>
          <p:cNvSpPr>
            <a:spLocks noGrp="1"/>
          </p:cNvSpPr>
          <p:nvPr>
            <p:ph type="dt" idx="4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ftr" idx="4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sldNum" idx="4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5979-A6F9-4665-BC48-D18307E73F23}" type="slidenum">
              <a:rPr b="0" lang="fr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05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105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6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6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6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6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7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7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08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9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4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5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5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B774-DAB7-478F-AB20-ABB61302470A}" type="slidenum">
              <a:rPr b="0" lang="fr-CA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4"/>
    <p:sldLayoutId id="2147483858" r:id="rId35"/>
    <p:sldLayoutId id="2147483859" r:id="rId36"/>
    <p:sldLayoutId id="2147483860" r:id="rId37"/>
    <p:sldLayoutId id="2147483861" r:id="rId38"/>
    <p:sldLayoutId id="2147483862" r:id="rId39"/>
    <p:sldLayoutId id="2147483863" r:id="rId40"/>
    <p:sldLayoutId id="2147483864" r:id="rId41"/>
    <p:sldLayoutId id="2147483865" r:id="rId42"/>
    <p:sldLayoutId id="2147483866" r:id="rId43"/>
    <p:sldLayoutId id="2147483867" r:id="rId44"/>
    <p:sldLayoutId id="2147483868" r:id="rId4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15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115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15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15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15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15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6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7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7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9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dt" idx="5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 type="ftr" idx="5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 type="sldNum" idx="5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4A36-B3EC-4366-83FD-F46B71BE82A8}" type="slidenum">
              <a:rPr b="0" lang="fr-CA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1"/>
    <p:sldLayoutId id="2147483871" r:id="rId32"/>
    <p:sldLayoutId id="2147483872" r:id="rId33"/>
    <p:sldLayoutId id="2147483873" r:id="rId34"/>
    <p:sldLayoutId id="2147483874" r:id="rId35"/>
    <p:sldLayoutId id="2147483875" r:id="rId36"/>
    <p:sldLayoutId id="2147483876" r:id="rId37"/>
    <p:sldLayoutId id="2147483877" r:id="rId38"/>
    <p:sldLayoutId id="2147483878" r:id="rId39"/>
    <p:sldLayoutId id="2147483879" r:id="rId40"/>
    <p:sldLayoutId id="2147483880" r:id="rId41"/>
    <p:sldLayoutId id="2147483881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70CD-3A6B-4DFF-9BF5-7F8A347903C2}" type="slidenum"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4EBC-226B-4B53-A432-D94450EC4F22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F13D-294B-4C88-A6FE-CE2117675C64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6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53ED-AD0F-4551-9CEB-FCC82436E3CA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1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F9BC-5D11-4AE3-B836-725F614381EA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D650-55DE-46D6-8678-15FEB86E28C5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2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44F1-CDD5-471C-BDE0-F00DAEC22C73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80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3A74-F222-4E0C-9011-5BE042070C0B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9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400" spc="-1" strike="noStrike">
                <a:solidFill>
                  <a:srgbClr val="99eff1"/>
                </a:solidFill>
                <a:latin typeface="Comic Sans MS"/>
              </a:rPr>
              <a:t>LE QUIZ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Arial"/>
              </a:rPr>
              <a:t>Comment faire un quiz avec Powerpoint?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b7e7ff"/>
                </a:solidFill>
                <a:latin typeface="Arial"/>
              </a:rPr>
              <a:t>À quoi peut servir le logiciel Powerpoint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971640" y="2565360"/>
            <a:ext cx="7345440" cy="24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À faire des présentations orales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À jouer à des jeux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À présenter des photographies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Toutes ces réponses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A et C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b7"/>
                </a:solidFill>
                <a:latin typeface="Comic Sans MS"/>
              </a:rPr>
              <a:t>RÉPONSE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La bonne réponse est 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Les logiciels de présentation permettent de présenter des documents sous forme de textes, d'images, de vidéos et d'animation à l'aide d'un projecteur.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eec94"/>
                </a:solidFill>
                <a:latin typeface="Comic Sans MS"/>
              </a:rPr>
              <a:t>Comment fait-on pour écrire du texte dans un Powerpoint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On doit ouvrir un logiciel spéc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On doit écrire dans la zone de tex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On peut écrire n’importe o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Toute ces répo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cc"/>
                </a:solidFill>
                <a:latin typeface="Comic Sans MS"/>
              </a:rPr>
              <a:t>Réponse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La réponse est 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Quand tu écris un texte dans Powerpoint, cela doit être faire dans une ¨zone de texte¨. On peut ajouter ou supprimer des zon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omic Sans MS"/>
              </a:rPr>
              <a:t>Quel type d’images peut-on insérer dans Powerpoint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Comic Sans MS"/>
              </a:rPr>
              <a:t>a) Tu peux aller les chercher dans le les images clipar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Comic Sans MS"/>
              </a:rPr>
              <a:t>b) Tu peux aller les chercher dans un des tes fichiers sur ton ordinateu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Comic Sans MS"/>
              </a:rPr>
              <a:t>c) Tu peux en sauvegarder d’Internet et aller les récupér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Comic Sans MS"/>
              </a:rPr>
              <a:t>D) Toutes ces répons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omic Sans MS"/>
              </a:rPr>
              <a:t>Réponse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100" spc="-1" strike="noStrike">
                <a:solidFill>
                  <a:srgbClr val="ffffff"/>
                </a:solidFill>
                <a:latin typeface="Arial"/>
              </a:rPr>
              <a:t>La réponse est 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100" spc="-1" strike="noStrike">
                <a:solidFill>
                  <a:srgbClr val="ffffff"/>
                </a:solidFill>
                <a:latin typeface="Arial"/>
              </a:rPr>
              <a:t>Toute ces réponse sont bonnes. Pour insérer une image, tu cliques sur ¨insertion¨, suite sur image et tu choisis la localisation de ton image. Elle apparaîtra dans ta diapositive et tu pourras la déplacer en cliquant dessus et en bougeant ta souri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dbbd71"/>
                </a:solidFill>
                <a:latin typeface="Arial"/>
              </a:rPr>
              <a:t>Comment sauvegarde-t-on notre travail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Il n’est pas obligatoire de sauvegarder notre trava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Nous devons le sauvegarder régulièr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Il est préférable de sauvegarder, seulement, à la fin de notre trava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7d47d"/>
                </a:solidFill>
                <a:latin typeface="Comic Sans MS"/>
              </a:rPr>
              <a:t>Réponse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f1311"/>
                </a:solidFill>
                <a:latin typeface="Comic Sans MS"/>
              </a:rPr>
              <a:t>La réponse est B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f1311"/>
                </a:solidFill>
                <a:latin typeface="Comic Sans MS"/>
              </a:rPr>
              <a:t>Nous devons sauvegarder notre travail régulièrement. On ne sait jamais quand une panne peut arriver. Vaut mieux être pruden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f1311"/>
                </a:solidFill>
                <a:latin typeface="Comic Sans MS"/>
              </a:rPr>
              <a:t>*Pour sauvegarder nous devons cliquer sur ¨fichier¨, ensuite ¨sauvegarder sous¨, choisir le bon emplacement de sauvegarde et nommez notre fichier. Ensuite, on clique sur ¨OK¨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6:37:34Z</dcterms:created>
  <dc:creator>STI</dc:creator>
  <dc:description/>
  <cp:keywords/>
  <dc:language>en-US</dc:language>
  <cp:lastModifiedBy>STI</cp:lastModifiedBy>
  <dcterms:modified xsi:type="dcterms:W3CDTF">2007-11-19T18:14:21Z</dcterms:modified>
  <cp:revision>7</cp:revision>
  <dc:subject/>
  <dc:title>L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36</vt:lpwstr>
  </property>
</Properties>
</file>