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08B9-3B99-42AE-8FE8-77FA37A1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33E0-05C4-4768-8D69-198A1E35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94EA6-0263-4D77-82C3-6F818807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D13AA-D45A-46DD-9ACC-52BFCCFF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2D1D6-BD00-450A-BCB6-636DB60E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0CBDE-AC8A-4B83-AE8E-9E1A465F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B22AF-C74C-400F-9BB0-655735CB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36EBF-8956-4FB3-AA8C-A8BEE1EE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C5521-63A5-4DA5-B638-DACA2E2E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1586A-B322-4092-A48F-47D4780A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C66B9-60B6-432F-8AD8-EAC812ED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CA99E-DBB3-4C1D-8F24-C974F35C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C72F-10C1-49C9-A13C-2000376C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99CC3-FDD6-4DA1-A03A-2B0400E9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AD50F-0385-48CE-A097-183D28E3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3EB0A-0DFF-48D6-99CA-A3DD1384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2C6EF-D9C2-41A5-B05B-B97F38D6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017A0-7723-4E41-8CB8-B750424A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B7377-4CD8-4FC5-948A-0CCD6D94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B1F36-769E-42BA-8F57-411AF080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6998E-C24D-486C-AF8E-E48C8051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D8A5D-D99D-4BFC-BB20-4FB7A7B7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8DA9C-0605-4E12-B0DA-94D59A4D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C201-3C6C-4480-9837-476B3866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D7063-8D81-424C-88A5-4893A0AB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F5298-2C3C-4E8C-A6C0-B3FC6C55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ED958-67C7-4E71-A446-A063A2E8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C677C-5E33-4EF7-866B-7D0F43F0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D6B21-9F5C-4252-B579-111F392A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2BD0E-4CE6-452F-B74A-9DAA959C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DB55D-0CD6-4F44-881E-3AEA5BF3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7F1E4-5726-4119-8FF9-41D0C0DB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EDCA0-2A52-48FC-A08B-46CE3762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8DE2D-C055-444A-AA00-691CEEF6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1BD2-2D71-47B2-81DD-55461156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A82D6-6F87-473B-8070-E9157E57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6EB7E-241A-438F-B4B6-1B4C4C6B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49949-57B7-474E-9601-348FCFBF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FC1B4-9C88-4D1C-B920-1651F5E7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1F6BC-4C9A-4405-A295-F676F714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73F9B-38D4-4FD2-8E0E-ECDD7A63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F00F1-17FA-436B-949B-3F4BD00E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02B4F-D881-4DCC-A0F4-7D945AF8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16B38-B53C-4046-909E-83BB6228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04806-6362-4C15-9F88-701C421A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1698-02DE-4635-91DB-1C997550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7F4FF-3262-4007-A51A-1ABE361C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E59D7-B98A-4348-B691-EEC80192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DFF8F-1F7C-4F80-B0B3-AE1C3998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6F34B-6173-435A-8E4E-0A7ECF78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DB638-2554-42EA-97BF-B864BCA0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23F6E-6563-41BA-9827-195C94EE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5FE1E-45CD-46D2-B5DF-DD467572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ADDAC4-0EBA-4EE5-98F1-F467DC9D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3F241-8732-48D1-97E7-F01BC3F9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E4FB4-894D-4F61-BCB9-63AE25D3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7F6C-EADF-4901-A06A-35C59AE5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084A5-7159-484C-91A4-358E62C7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842D7C-15B6-4BA1-9413-F62BAE01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BFC377-54FD-4397-BD53-F5048DFC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7BB0F-9021-4D45-840A-9EC2306C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F71170-77B4-4A59-BC54-64883131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AA280-C6DE-480C-AAEB-57E9417F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C8647A-B463-4BC7-93C6-2B6C9FBF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0E45E5-D0B6-4588-B053-DF0EA0D6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CD0192-8FDB-4761-92D7-BEE6F8E3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A123C-5AFA-464F-B7B4-5412D55F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F271-632B-475A-AE87-CBDE1F01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A9B3C5-5985-474C-916C-BC7227C7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7FE73A-8FE4-41EA-8FE2-8D0CC346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448B58-CABA-435F-A56F-C939C37D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170CC2-081C-47D5-A04C-D50E4932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ADE03A-D70F-4368-9198-6CD26E13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BDF64D-7133-4330-87AC-384378E6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AF61FE-44DC-48F1-A2AB-DE0CC642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C8751D-C49B-46A2-BFB3-C1A8F91F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7E3B6-069A-4FD6-A451-890F730F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345755-A664-42AB-9A25-82AC5DA9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5BF9-5F55-46ED-A36B-6C9CAB66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B54A13-CBAC-4828-904A-E31CA531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558FC7-2626-48D9-8CCA-F3372D84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3F44A4-3042-449A-AFE0-D3437C08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E8298A-FC70-458F-A017-6312B127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8C6390-FE69-4281-97E2-176B4AE8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9766D2-2403-43B3-853E-AA0B0AE9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F26D4E-926D-4FFC-8EB9-92E5C42F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33C806-1957-40BF-BC1C-953B55A6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B96B13-C565-40BA-98AA-DA2E3969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963B63-08BA-42E6-BFE5-1C4AD521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89CF-F28E-4C98-A842-3E53CB4D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78AA11-28C8-43CA-BB5B-25AF6879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0562D9-EBE6-4BCC-AD0B-995C63A3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DB352B-B393-47B2-9843-20315927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4C2A43-335D-4CCC-81B8-71ECA43E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9EB379-4B51-4975-95E7-8EA5A995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4E964D-0E1C-434C-B969-7F5E898E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7FC04F-E50F-4FA6-89C7-49157FD2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9B46A2-3F0F-4ECB-88E0-C1FE76CA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8CF56A-3DF2-4710-A801-464B9DFA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D76473-0711-4AAD-A70F-62E15DE1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944B-C66E-4A02-A4FE-C7B5785A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435685-92D2-496A-A516-4CC1B907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4DF0F6-B08F-49F8-B29B-B1F262DE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222BF7-8CAB-4E96-B31C-9198C5EE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363A99-C82F-428E-BF57-F9F9E8EB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2DB5AB-4989-48DB-8122-B841EB7D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63A6EC-D7C2-4ADD-B4A2-3507FE65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890623-5A6A-49AE-8C3B-13576449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593CEC-12B2-4A46-8A8A-FB0F356D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6E7214-A3E5-4C72-BD90-6C1DCCA9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19DF85-85D2-4DE1-B941-0A49CC6B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86C-BB5A-4AE5-9B73-0A92311E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6B79-C7F7-4C1C-B64B-13B726EE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94B0AD-D422-487A-95E2-4B393697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71ADBD-7E72-4A53-AAE4-8D237765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90A258-55D5-4ACE-9612-E3F86EC7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A29B09-0E18-4ED3-9E35-6B017153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7F3387-A1E5-4BAE-95AA-8EFDB71B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BE27A7-7F79-4BA2-B82D-57D4F550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84D0DC-907E-4DF6-B65B-F38281E6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CE8686-42B9-4E8A-A514-B4F3A773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270B40-9DDE-4058-868B-C34FBEFD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54D0A2-E98F-41FF-A7BE-AE480194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F7AF-882A-4CE9-8848-54E87F46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913C71-A8B4-4DA2-BA92-9141E1C9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954401-C97F-4F9F-9F13-BC0BAF32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858B2C-0B7D-44BA-9694-7AB7A81D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56E0BD-9058-40CF-ACF6-38953690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B6B822-694E-4385-BAC5-748976C5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2CE590-F085-46E4-91FB-5839E06D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5D8B61-D712-44F2-92F2-2C8D52D7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7557-C55A-471D-A6CD-ED8A8E4D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68D4-062B-4AB8-A7AE-9E0C692F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510F-A273-4815-8267-65466FC9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1878F-1C13-421C-8E57-1DD51B84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8C4E0-B1A8-4CAF-A417-DCA446CA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73DDD-988F-4315-895C-92254C26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DDB66-A367-4D30-8A1C-A5FD053A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F16A0-951E-4528-A7A3-60BA6762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80D-00B2-4080-9CA7-BC1F2B69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7397B-88F9-4D41-8584-E13CDF10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659BC-E476-4CFA-AD51-89EC4564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AB368-804A-4A9A-911D-6F3688FE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3B518-093D-45A3-AC7C-DCB1A94B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4FEA5-59E8-43B0-8673-4E2ECABE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40738-A286-41E1-90CA-7F863F77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796FC-BB04-4508-A125-EB3ED897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825C1-D3F8-4BC0-B44A-A87BC6EE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0FA1F-641E-4B7A-961B-3FE723D4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82BE4-069C-4756-9F69-38824D85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63D-733A-44A0-80FD-B170AE89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FCDBA-2F50-49D2-A3C4-D0323488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756FF-4339-4907-BA7D-09E72777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8A0CA-5931-44DB-89E5-FFC2FBC4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AEA47-A3EE-4E8A-8DE2-163FAF38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EC3F2-A548-449F-9356-AE30D4B2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8FB0C-0FD4-4D7C-B4E5-E8AB1EB6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FB894-7786-4262-97D9-BF587162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0D30C-17C7-40A8-B4CF-2EB19F83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4E19B-52CD-4ABC-9CC9-C5FE082A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43C16-85FA-42E2-9524-3A4AFC64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1B3F-314B-4E27-AAED-CFB11FCD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C260A-FDE8-4FEA-BDF9-06563AA6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A3E33-BE72-4C5F-A45C-77930B3E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964C7-A9FD-4CC0-81ED-DC54B449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2288D-BBBC-489F-8F2D-5712637C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7FF1D-28A3-48C4-91BA-E17A0086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AC75B-8BB7-43E9-B343-8C807C00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793A8-F3CB-4907-BCC7-8AB18611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ED18B-2F26-4561-A013-5B08FF64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A7A9D-F5C1-40A5-A561-895EC682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07EA2-1A36-42FC-8DEC-13705EFD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6397-A637-4E88-8138-CC2E3C5D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90A25-F278-48C6-A884-7B19B16B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5AEA2-0647-42AD-9DC9-39E11226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4FC91-9847-4A6C-AB13-ADF2D2EA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AD8EB-31E6-4F9D-A118-149217F2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44C68-FE0A-437A-A624-DEC84522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A7C0F-BC53-4C58-9EA5-47F8E020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F93EC-385A-48B2-B48D-A4C84E2D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03AB0-8548-407C-BD52-A76B49CF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6DC33-1AB0-4793-8033-D912A6BA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902B8-778B-4954-A7E8-3390EF53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47C-6C90-4018-A0D7-883A5B2F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DC304-3DD1-4171-87F8-C4C144C2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0803E-B915-4747-8154-D9F64BE4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D1073-207A-4896-8E4D-4E5D5B3A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9DF51-2C82-466F-BB50-26F8E0BE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B7F56-E4DF-4302-A44D-2EFBEC23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C3C84-C959-48D4-AD1E-0F9D5D51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56C76-4B40-47A3-A164-B2D92FA0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0C3B7-6DAB-428D-984B-4B72FE69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56A5F-41B5-4ECE-A11F-C4984D0A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8EA60-A43E-4B0C-BDA0-5FF8F43E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913-D319-46E8-A6AC-AE94ED3B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568B3-7E29-4958-9775-F618196D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625A8-A429-4D52-9C42-05C77B71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F5E19-B64D-4044-9F93-909144FE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6FB62-22ED-4A93-8A68-A87840F0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8E2AE-9E19-4DDA-B6E0-FF3E3C77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F3297-37AD-4C86-BDFF-7FDB90F9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1CA60-0224-4616-807E-B1D57C2B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44AB2-42AD-4C38-B326-0EE2F7B1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94D80-2D93-45A4-83AE-4AADAA47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8CC99-488C-470B-8AAE-F0852282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E7D-3A2F-4A77-8512-EE0D8507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64EAA-9424-4921-8FD9-C684BACB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7A6B9-C103-403E-B97D-097842F7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0E30A-67D6-45BC-8CD0-5127E20D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ED3DF-94BF-4C23-A1F3-3419F8B3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20A4B-4A02-4DC1-BA61-9688DA0D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FB369-F247-4576-BFE3-511C0E9F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9B1F8-3B9D-4FBF-8548-DFA54C1B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25AF4-D1BF-495B-BF12-23938F91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F59D3-F767-4B27-BCAF-464B9515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DECBE-A1E9-4402-B37C-E8B10153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193.xml"/><Relationship Id="rId35" Type="http://schemas.openxmlformats.org/officeDocument/2006/relationships/slideLayout" Target="../slideLayouts/slideLayout194.xml"/><Relationship Id="rId36" Type="http://schemas.openxmlformats.org/officeDocument/2006/relationships/slideLayout" Target="../slideLayouts/slideLayout195.xml"/><Relationship Id="rId37" Type="http://schemas.openxmlformats.org/officeDocument/2006/relationships/slideLayout" Target="../slideLayouts/slideLayout196.xml"/><Relationship Id="rId38" Type="http://schemas.openxmlformats.org/officeDocument/2006/relationships/slideLayout" Target="../slideLayouts/slideLayout197.xml"/><Relationship Id="rId39" Type="http://schemas.openxmlformats.org/officeDocument/2006/relationships/slideLayout" Target="../slideLayouts/slideLayout198.xml"/><Relationship Id="rId40" Type="http://schemas.openxmlformats.org/officeDocument/2006/relationships/slideLayout" Target="../slideLayouts/slideLayout199.xml"/><Relationship Id="rId41" Type="http://schemas.openxmlformats.org/officeDocument/2006/relationships/slideLayout" Target="../slideLayouts/slideLayout200.xml"/><Relationship Id="rId42" Type="http://schemas.openxmlformats.org/officeDocument/2006/relationships/slideLayout" Target="../slideLayouts/slideLayout201.xml"/><Relationship Id="rId43" Type="http://schemas.openxmlformats.org/officeDocument/2006/relationships/slideLayout" Target="../slideLayouts/slideLayout202.xml"/><Relationship Id="rId44" Type="http://schemas.openxmlformats.org/officeDocument/2006/relationships/slideLayout" Target="../slideLayouts/slideLayout203.xml"/><Relationship Id="rId4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205.xml"/><Relationship Id="rId32" Type="http://schemas.openxmlformats.org/officeDocument/2006/relationships/slideLayout" Target="../slideLayouts/slideLayout206.xml"/><Relationship Id="rId33" Type="http://schemas.openxmlformats.org/officeDocument/2006/relationships/slideLayout" Target="../slideLayouts/slideLayout207.xml"/><Relationship Id="rId34" Type="http://schemas.openxmlformats.org/officeDocument/2006/relationships/slideLayout" Target="../slideLayouts/slideLayout208.xml"/><Relationship Id="rId35" Type="http://schemas.openxmlformats.org/officeDocument/2006/relationships/slideLayout" Target="../slideLayouts/slideLayout209.xml"/><Relationship Id="rId36" Type="http://schemas.openxmlformats.org/officeDocument/2006/relationships/slideLayout" Target="../slideLayouts/slideLayout210.xml"/><Relationship Id="rId37" Type="http://schemas.openxmlformats.org/officeDocument/2006/relationships/slideLayout" Target="../slideLayouts/slideLayout211.xml"/><Relationship Id="rId38" Type="http://schemas.openxmlformats.org/officeDocument/2006/relationships/slideLayout" Target="../slideLayouts/slideLayout212.xml"/><Relationship Id="rId39" Type="http://schemas.openxmlformats.org/officeDocument/2006/relationships/slideLayout" Target="../slideLayouts/slideLayout213.xml"/><Relationship Id="rId40" Type="http://schemas.openxmlformats.org/officeDocument/2006/relationships/slideLayout" Target="../slideLayouts/slideLayout214.xml"/><Relationship Id="rId41" Type="http://schemas.openxmlformats.org/officeDocument/2006/relationships/slideLayout" Target="../slideLayouts/slideLayout215.xml"/><Relationship Id="rId42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DE1A-1CE8-401A-A7C2-837931C66510}" type="slidenum"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24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7990-86E9-4A83-8CC6-65A85ADED855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6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6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7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7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7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8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grpSp>
              <p:nvGrpSpPr>
                <p:cNvPr id="54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C217-9AB3-49BD-BA15-01C00E6B7409}" type="slidenum"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4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4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4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9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0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1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3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3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4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4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5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5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6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DC48-673B-42F4-AE13-F14CC7358426}" type="slidenum"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816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813D-D899-46BD-8E9C-9AE0B69E1700}" type="slidenum"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61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dt" idx="4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ftr" idx="4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sldNum" idx="4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FF5C-8C95-4944-A8E7-7FB6C901717C}" type="slidenum"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0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1006-A347-444B-B999-460A59C64F6A}" type="slidenum">
              <a:rPr b="0" lang="fr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8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015" name="PlaceHolder 1"/>
          <p:cNvSpPr>
            <a:spLocks noGrp="1"/>
          </p:cNvSpPr>
          <p:nvPr>
            <p:ph type="dt" idx="4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ftr" idx="4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sldNum" idx="4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DCC0-AB88-415A-A315-93BB29F59961}" type="slidenum">
              <a:rPr b="0" lang="fr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5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6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6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6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7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7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8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9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4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5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5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4B02-48BD-446E-9AE2-AB3C870ABE10}" type="slidenum"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4"/>
    <p:sldLayoutId id="2147483858" r:id="rId35"/>
    <p:sldLayoutId id="2147483859" r:id="rId36"/>
    <p:sldLayoutId id="2147483860" r:id="rId37"/>
    <p:sldLayoutId id="2147483861" r:id="rId38"/>
    <p:sldLayoutId id="2147483862" r:id="rId39"/>
    <p:sldLayoutId id="2147483863" r:id="rId40"/>
    <p:sldLayoutId id="2147483864" r:id="rId41"/>
    <p:sldLayoutId id="2147483865" r:id="rId42"/>
    <p:sldLayoutId id="2147483866" r:id="rId43"/>
    <p:sldLayoutId id="2147483867" r:id="rId44"/>
    <p:sldLayoutId id="2147483868" r:id="rId4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15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115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15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15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15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5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6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7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7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9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dt" idx="5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ftr" idx="5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sldNum" idx="5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4422-6278-4F74-8183-5080E291AA1D}" type="slidenum"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1"/>
    <p:sldLayoutId id="2147483871" r:id="rId32"/>
    <p:sldLayoutId id="2147483872" r:id="rId33"/>
    <p:sldLayoutId id="2147483873" r:id="rId34"/>
    <p:sldLayoutId id="2147483874" r:id="rId35"/>
    <p:sldLayoutId id="2147483875" r:id="rId36"/>
    <p:sldLayoutId id="2147483876" r:id="rId37"/>
    <p:sldLayoutId id="2147483877" r:id="rId38"/>
    <p:sldLayoutId id="2147483878" r:id="rId39"/>
    <p:sldLayoutId id="2147483879" r:id="rId40"/>
    <p:sldLayoutId id="2147483880" r:id="rId41"/>
    <p:sldLayoutId id="2147483881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59AA-E0EA-4784-8117-C789B4FD0B65}" type="slidenum"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B8DD-37C1-407F-AF69-153A5386D575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5B0E-C591-4A0E-861E-BE536FC27887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328B-AF17-40D0-88BF-3A3B1AD3FC21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8910-84E8-4E4F-900D-1F7DAE68B389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8936-74A9-421E-AE4A-418537631926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3D2F-242A-43F5-9B0C-0853A1F46067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0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281C-9A5B-4FC3-A4E6-0BC036A54DA5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99eff1"/>
                </a:solidFill>
                <a:latin typeface="Comic Sans MS"/>
              </a:rPr>
              <a:t>LE QUIZ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"/>
              </a:rPr>
              <a:t>Comment faire un quiz avec Powerpoint?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b7e7ff"/>
                </a:solidFill>
                <a:latin typeface="Arial"/>
              </a:rPr>
              <a:t>À quoi peut servir le logiciel Powerpoint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971640" y="2565360"/>
            <a:ext cx="7345440" cy="24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À faire des présentations orales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À jouer à des jeux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À présenter des photographies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Toutes ces réponses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A et C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b7"/>
                </a:solidFill>
                <a:latin typeface="Comic Sans MS"/>
              </a:rPr>
              <a:t>RÉPONSE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La bonne réponse est 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Les logiciels de présentation permettent de présenter des documents sous forme de textes, d'images, de vidéos et d'animation à l'aide d'un projecteur.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eec94"/>
                </a:solidFill>
                <a:latin typeface="Comic Sans MS"/>
              </a:rPr>
              <a:t>Comment fait-on pour écrire du texte dans un Powerpoint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On doit ouvrir un logiciel spéc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On doit écrire dans la zone de tex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On peut écrire n’importe o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Toute ces répo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cc"/>
                </a:solidFill>
                <a:latin typeface="Comic Sans MS"/>
              </a:rPr>
              <a:t>Répons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La réponse est 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Quand tu écris un texte dans Powerpoint, cela doit être faire dans une ¨zone de texte¨. On peut ajouter ou supprimer des zon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Quel type d’images peut-on insérer dans Powerpoin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a) Tu peux aller les chercher dans le les images clipa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b) Tu peux aller les chercher dans un des tes fichiers sur ton ordinateu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c) Tu peux en sauvegarder d’Internet et aller les récupér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D) Toutes ces répons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Réponse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100" spc="-1" strike="noStrike">
                <a:solidFill>
                  <a:srgbClr val="ffffff"/>
                </a:solidFill>
                <a:latin typeface="Arial"/>
              </a:rPr>
              <a:t>La réponse est 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100" spc="-1" strike="noStrike">
                <a:solidFill>
                  <a:srgbClr val="ffffff"/>
                </a:solidFill>
                <a:latin typeface="Arial"/>
              </a:rPr>
              <a:t>Toute ces réponse sont bonnes. Pour insérer une image, tu cliques sur ¨insertion¨, suite sur image et tu choisis la localisation de ton image. Elle apparaîtra dans ta diapositive et tu pourras la déplacer en cliquant dessus et en bougeant ta souri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dbbd71"/>
                </a:solidFill>
                <a:latin typeface="Arial"/>
              </a:rPr>
              <a:t>Comment sauvegarde-t-on notre travail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Il n’est pas obligatoire de sauvegarder notre trav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Nous devons le sauvegarder régulièr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Il est préférable de sauvegarder, seulement, à la fin de notre trav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7d47d"/>
                </a:solidFill>
                <a:latin typeface="Comic Sans MS"/>
              </a:rPr>
              <a:t>Réponse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f1311"/>
                </a:solidFill>
                <a:latin typeface="Comic Sans MS"/>
              </a:rPr>
              <a:t>La réponse est B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f1311"/>
                </a:solidFill>
                <a:latin typeface="Comic Sans MS"/>
              </a:rPr>
              <a:t>Nous devons sauvegarder notre travail régulièrement. On ne sait jamais quand une panne peut arriver. Vaut mieux être prude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f1311"/>
                </a:solidFill>
                <a:latin typeface="Comic Sans MS"/>
              </a:rPr>
              <a:t>*Pour sauvegarder nous devons cliquer sur ¨fichier¨, ensuite ¨sauvegarder sous¨, choisir le bon emplacement de sauvegarde et nommez notre fichier. Ensuite, on clique sur ¨OK¨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6:37:34Z</dcterms:created>
  <dc:creator>STI</dc:creator>
  <dc:description/>
  <cp:keywords/>
  <dc:language>en-US</dc:language>
  <cp:lastModifiedBy>STI</cp:lastModifiedBy>
  <dcterms:modified xsi:type="dcterms:W3CDTF">2007-11-19T18:14:21Z</dcterms:modified>
  <cp:revision>7</cp:revision>
  <dc:subject/>
  <dc:title>L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6</vt:lpwstr>
  </property>
</Properties>
</file>