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8B0-E4E0-406D-87D2-E2D3DB38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6C5-34D9-4241-AF23-C91EF5C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3D1EA-B4B0-4E85-94BF-AC23EF6E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CE2C1-A86F-4E1B-BF20-628BFB7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2E762-E600-4D89-8071-74DE889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38922-598D-4196-9149-BCC4984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D9A46-38C7-4EA7-BDB2-39DBEED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A9773-B731-47C6-A0ED-2BBACAF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29BA1-C0D0-4261-85E5-AB2B9BF5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61302-72B4-492C-A87E-32DE8B45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B4447-E9A2-4AB9-A2D0-A626A547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45857-0A9C-4160-88EA-3E908C0F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17D-BF06-4ED9-B3A3-220F6131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67606-E3F1-41EF-A558-E249440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FA8D4-F34F-4DCD-AC42-E2B7807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2A63B-181E-46A7-A8B9-BE30EA6E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6CF28-EA29-4634-99A9-636E6B09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19314-8E5C-47CF-B94A-93ED383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D6CD6-F7D8-4D6B-A2DC-B029DE57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14FEF-9405-45D9-B351-A360874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C9A16-8718-4A65-8EFE-922AA77D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7B07C-11C8-430F-A6CF-D6E65AE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00745-26DE-436A-9FE0-B60BAEB0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0CE-109D-4E41-A617-DD388FD3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7739F-619C-4D53-8A00-4798255C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7B5D7-751E-4087-96C9-D2474377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7C0AD-6B78-431B-A75E-EAACE27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4C6D9-FCCC-4882-8C3E-877F7C74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C94C6-E995-4CDF-B3F2-040A8AD3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9C2FC-C949-46B6-B8FB-5C7B222B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BBBF7-3FA2-4CFB-AAC6-18685420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9B312-0946-4FBF-887B-CA659B09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BA5E4-F44A-4021-888F-04526004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A521C-383A-4BFD-B7E4-0DD23B66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EC36-F97C-447B-B09B-C36C627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A48A5-C7FF-4F7D-AB7B-974D33AF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F6636-1CC3-46FB-A678-09E75E22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0E8F4-1FB5-406B-87B6-2EB4A54C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41AA4-3E55-40C7-B9FD-B769191D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FD115-5612-4974-A0FE-2BB8CCB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1FC4F-F09C-4B9F-B03B-3BCFB162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B2CDA-BC19-4CDC-926C-6D93F9B4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8E22A-85B3-4EB7-8E68-1203D83B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A7722-95FD-4EB8-B9B2-F8519FB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3A72E-C3DF-4514-97F1-04298E7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9678-593A-4D38-A1AD-560C311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37604-C970-466A-A47F-6F0BC84D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7FD9D-DC7D-45D9-923E-7C12A8B7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2C8D3-C944-4964-85C7-5C717AA1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CCBD4-2810-47C8-BA1B-CD8EC770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62AF2-24D4-449B-9ACB-38123188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1939D-84B5-4648-97D2-DB8B0484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D7BAC-227C-4608-8ABB-5E3464C3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00B3A-1E26-4999-8A2A-825493D8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2B202-84A5-4A4C-B171-BE997F4E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1A215-DFFE-4CC4-9450-DD05987C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D94-D9FB-4ECF-82B9-CB1F5FFF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9D2A2-821B-4448-85E0-E8D4D6F0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9C503-746F-4649-827F-648FDFF0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F48B7-F111-4530-967B-B16FEFF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E7A96-A155-4D18-8E08-9413A2C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86C3D-4F4C-4FD5-A67A-2588FE9D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935AF-EEA8-4A7D-B50C-ADDF3D15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079AD-75E4-4427-B8FD-A01EA08F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79408-CB6B-491A-AB00-7950DA63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6540B-5263-4EEF-B13B-C207609C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222FA-6D32-4738-8E60-ED81C786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2D17-21E7-4F04-8689-9C890776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7F675-8FA0-4F44-8217-31DC0AA1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9C3D7-6659-4641-8A97-C82A2FEE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B325F-FB29-4906-BC6E-C851A58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F17B6-0FC0-4F6C-8DE0-23175FB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C6D10-D332-408C-9CB2-50D62B78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1F828-0E55-490F-BF1E-61C9FFBC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6CECD-5559-403C-9100-74D4CC62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C86DF-45D3-4534-9C83-5A035B64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5740F-3766-4E77-BA97-8171BF9D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56A81-ECF1-453F-B628-B42F88AB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E346-B46B-4CC4-8B79-7E993AA2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A03E9-95E9-4849-B6B7-791D57AC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451DE-9C95-4D4B-A950-0B80507D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419A6-8B51-42BC-81F9-0BC5103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9E717-383D-45CE-8D05-D1C0E779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82D01-575E-4EF3-81CF-F0DEF508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C4DCF-F909-49EC-8C50-668CECE1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F8D8A-E3D9-48CD-B5F1-6E0C3278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FDFAA-6CC2-4CDA-B0BE-BFFDF525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7C0A8-FBC8-4979-9C73-EFD3C1D8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C4D5E-5EA7-4BE4-8337-EFE4BAF3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F135-512D-4F1A-9FA0-FF660992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2E185-960A-4503-A60A-CDED5DB2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1EB57-20D1-42D8-83C2-82AC789D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62F4D-A6A2-4470-A7EF-81A3DEA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FE6F7-F7C8-4DCA-98CC-CEF69AD6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B248C-1841-4A6A-902F-084F8996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D2A91-72FC-4C51-8CD5-A11BF41A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CCB52-B9CD-4B58-BC46-9FCC23DA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E5AC7-B434-4E49-B56B-7C1ACA9E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3469A-56E5-46F1-98AA-433A812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395EF-B7FA-4050-A0B9-8FDFE53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AC69-9E13-4AD4-B391-1E8D3EBE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979F5-439C-4FD8-A6D4-30D5C566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ABE898-BD94-4870-A58B-A7581D75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D1A2D-F1B8-473C-B477-614435A9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4326F-2E0B-4551-BEEA-69BF276E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C939E-FFFC-49AE-8AE1-683F151B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3AAF3-C181-4E57-9967-2BA5F5B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0B03F-BCA9-4380-BC34-180C5B15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76C97-5A66-4A87-B5F5-23EF6794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C7D35-19C9-4D56-BE7A-C05B3665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62F73-DA8B-48C1-BA15-744A201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C6D-AF38-4E6D-9664-40B18FDB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F3EA-40CD-4BCF-9262-0F7F771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4F33E-0F13-4993-8F26-384DF61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FAD51-2CD8-4922-8A25-C018EC1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88ECA-6FAD-4EC6-AC7C-26A218AA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09F87-2923-4C06-9686-F7B47023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12BC2-86E7-4D00-9A1E-4F6EE187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92092-0EA6-4F1B-B84E-91E458E1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E1F1E-4E6C-4CEB-9FD7-66A94D0F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AAA6F-1409-49F4-A938-DAC4AB29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AA7C1-300A-4632-AA0C-F0711DC3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E043E-ED23-4E30-951B-0D7D19A5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55FC-B73A-4830-B62A-1B73C92A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5B794-0C45-4C5A-9E0D-1231EF65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0DA23-5002-4D13-8C59-34F34A89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5BF31-D8D1-41A6-9AFB-0D690C7E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D6B483-EC48-4656-9117-70E4A8A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76B39-EE54-49E7-8123-FA1E3588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75C0D-EBE1-4037-80DE-86732161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3FBAE-7CF2-4D04-89FB-E43563B7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6B48-BDA3-4953-BB7C-D3C7B2EC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D15-95F6-4381-87EE-BF42AB22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7D51-2861-4E32-A2D0-FA8EF69F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1060-B51A-4DF7-9D8A-780D33F1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0978-20A0-4AA1-A198-A0F823EF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63AB0-05BB-44F1-9B20-E47EA790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E658-C76F-4C22-9D0A-9847EC76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F597-1104-4179-AA71-BB8F2D51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C29-1440-4264-93C8-2668FA41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3DD4-8C0B-40D6-AEC3-221C0B47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8E4A-F4C1-462A-BDA1-44C080D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10067-8000-4346-9173-3F2A8D4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CB35-23D0-43B5-BEFA-5941B546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55EF-D651-491B-994A-FC732084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72A2-0A7E-47ED-95E5-FC2413FC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A08F-AB67-41DD-A16E-B6A4C7A1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F1FA-3782-44D3-9FCF-00B63EB8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0C9E-FDCA-40D5-8BCB-C8C39B17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3966-863F-4CAF-9FA0-6F6F1F45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C63-15C6-4CEC-9C39-874DA39B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8678-BAF3-43A2-A874-968B11D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6FFE-AD0E-4531-A459-2452B1A3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B820B-C8B9-4B6A-BF59-AA3B9B5A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0DAD-B027-4A66-AD53-2F92ADB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00D5-4E7D-4D0E-ADB1-EA9F1B23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12FD-6513-40F0-B16F-23D5630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864D-2AA2-4AC5-BC87-4C3F463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F63A-812F-47AA-99AD-974E219D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B25A-306C-4CCE-846A-48101774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91BC-F37D-4BF1-8FC9-A373C035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D16-0F6C-44C5-A77C-7B3487DD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04097-9F3C-48C0-84E2-822A7A7B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425CF-8B10-4BB7-8BCA-C324E27C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C25F-4A01-4379-A70E-4034D836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D143-086A-4958-A713-1B8C624F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DACE3-0537-4CF9-BE34-C54CCF9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ED18C-AA5F-4044-9BA7-5C390E0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007D3-F252-4B07-ADC6-D60619D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8102C-FB3B-488F-AC44-B18635A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FEA5-AFFA-4670-8312-75AE0925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322BC-3DD9-4288-AAD9-E62F3F64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D5E-2E04-493D-8387-374A9827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96D5F-E9B9-469F-A650-91E31577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0611E-A6E7-4171-BBBE-ED288A08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A218-3C88-4F2A-8567-4CE91E3E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27D2A-58AA-4086-844A-CEEABDEA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3C59A-B2F4-4977-BCD8-7E6EB1CB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4A2EA-D4F9-4FF0-8BC3-30091F4D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506B3-01F4-4C75-A9F3-0791CA47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C85E-17F7-4055-8A52-1E9EB6EE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DBCC2-BE35-48F3-8FFA-B900113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5D909-6FB6-4960-AAB8-E074BEEA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C53-9AD8-4B81-9476-F63CF9E8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422F-7CD8-4A99-A5D6-8429989E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B6037-D508-41DD-A2F9-6A8841B3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9171-3227-46AC-B32F-6842C19A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333B-F88B-46C8-A3C7-D025115B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1394-EB9B-4AD8-B428-CD95AFBE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0F7FF-4FDA-410B-9BD4-8A14C6FA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38B8-23BC-464D-BB6D-3F1E3F3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2DC9A-3899-4F0D-B24B-3A2CAD36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DB536-63E5-4592-A920-4BAA9165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3515C-973B-4F74-86EE-4E898B30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3CC-9F7D-44CF-A010-DC241BCD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6E462-1F2D-4C50-8E68-3D2EF43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5C2E-E0AE-4FCE-9859-3EEEABC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92BE9-60A1-4294-A707-5EDB3B27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F2033-D569-497A-97DF-B15E7358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4A87E-9401-4EBF-9B8A-DB405998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D611-6465-4BDF-B64B-10AE5C8A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FD3F7-81BC-4B1A-BC8D-24B4BDC4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E90FC-95E0-49AC-87BC-ADA6094F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4CCE-5C26-4BE8-BA35-76EF9EAA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DDDA0-E3E4-4FBF-B2F2-B0FA2D8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C4C-5795-4439-9D64-210C196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6E60B-B633-4A26-8F56-43A81DD0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D0330-EEDB-48EE-A722-88EB54C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9AED4-D24F-47BF-AF6E-35CA7B7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A46E-7340-4D06-B398-3283EEB3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869D9-429E-4D1C-92B2-52615953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75C16-3036-44C3-A424-4341B752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7DF35-E864-47DA-9318-622DAB9E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9811F-73F0-46D9-A1F3-E6E54BF8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269AC-A352-432D-8659-3A5C428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D2671-544C-4420-AF17-4CB3E543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5698-E192-4A4D-A50B-562C711514F8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42E1-E469-49C0-86D8-46596B012767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E91-4753-40E6-B4E6-894386EA95D2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3297-0CD3-4783-AA28-A83F5FAAE94F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4776-2B6F-4F58-87ED-FB861F1FDD93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6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14DA-CB0D-466A-A067-C681E8879652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5B70-5E3F-4553-9B1D-A242D8D5FD61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DCB2-0AEC-4123-9234-86CB43B997C7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A817-8B8D-4480-B36E-4BD2D0926761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8F2F-9AC4-4642-94F9-BA9B5BD9EA2C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2823-A5A8-4BD1-A8D0-ED107AC81749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7F41-1D5F-4D61-A5DF-18D31F57BBD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AD7B-F370-4945-92D8-80A63BD7854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D5BF-E8D4-438C-A011-EFCABEA03C3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F8FB-3AD8-4959-BA2B-E21BA0A8AA5B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AE0A-15C5-43FD-9585-DC8ED104C8D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F23-CABC-4A0A-BA76-AC480F608FF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F06-C736-4B83-9E7F-07EA33D6AF92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99eff1"/>
                </a:solidFill>
                <a:latin typeface="Comic Sans MS"/>
              </a:rPr>
              <a:t>LE QUIZ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Comment faire un quiz avec Powerpoint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b7e7ff"/>
                </a:solidFill>
                <a:latin typeface="Arial"/>
              </a:rPr>
              <a:t>À quoi peut servir le logiciel Powerpoint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971640" y="2565360"/>
            <a:ext cx="73454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faire des présentations oral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jouer à des jeux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présenter des photographi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Toutes ces répons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A et C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b7"/>
                </a:solidFill>
                <a:latin typeface="Comic Sans MS"/>
              </a:rPr>
              <a:t>RÉPONS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a bonne réponse est 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logiciels de présentation permettent de présenter des documents sous forme de textes, d'images, de vidéos et d'animation à l'aide d'un projecteur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eec94"/>
                </a:solidFill>
                <a:latin typeface="Comic Sans MS"/>
              </a:rPr>
              <a:t>Comment fait-on pour écrire du texte dans un Powerpoint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ouvrir un logiciel spé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écrire dans la zone de tex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peut écrire n’importe o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Toute ces ré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réponse est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and tu écris un texte dans Powerpoint, cela doit être faire dans une ¨zone de texte¨. On peut ajouter ou supprimer des z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Quel type d’images peut-on insérer dans Powerpoi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a) Tu peux aller les chercher dans le les images cli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b) Tu peux aller les chercher dans un des tes fichiers sur ton ordinate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c) Tu peux en sauvegarder d’Internet et aller les récupér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D) Toutes ces répo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La réponse est 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Toute ces réponse sont bonnes. Pour insérer une image, tu cliques sur ¨insertion¨, suite sur image et tu choisis la localisation de ton image. Elle apparaîtra dans ta diapositive et tu pourras la déplacer en cliquant dessus et en bougeant ta sour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dbbd71"/>
                </a:solidFill>
                <a:latin typeface="Arial"/>
              </a:rPr>
              <a:t>Comment sauvegarde-t-on notre travai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n’est pas obligatoire de sauvegarder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Nous devons le sauvegarder régulièr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est préférable de sauvegarder, seulement, à la fin de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7d47d"/>
                </a:solidFill>
                <a:latin typeface="Comic Sans MS"/>
              </a:rPr>
              <a:t>Répons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La réponse est 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Nous devons sauvegarder notre travail régulièrement. On ne sait jamais quand une panne peut arriver. Vaut mieux être prud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*Pour sauvegarder nous devons cliquer sur ¨fichier¨, ensuite ¨sauvegarder sous¨, choisir le bon emplacement de sauvegarde et nommez notre fichier. Ensuite, on clique sur ¨OK¨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37:34Z</dcterms:created>
  <dc:creator>STI</dc:creator>
  <dc:description/>
  <cp:keywords/>
  <dc:language>en-US</dc:language>
  <cp:lastModifiedBy>STI</cp:lastModifiedBy>
  <dcterms:modified xsi:type="dcterms:W3CDTF">2007-11-19T18:14:21Z</dcterms:modified>
  <cp:revision>7</cp:revision>
  <dc:subject/>
  <dc:title>L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6</vt:lpwstr>
  </property>
</Properties>
</file>